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12DA-4BD8-4F70-8BC2-8BCABB5E7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7EAC-1200-44C6-BF6D-E66C7CF59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11EE-4D17-44C3-AE09-9AF8AB704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15BA-A1BD-4A64-9E27-2F959DCF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33E2-7C12-470D-B90B-0DABA9435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37D8-4C3A-40A0-A202-D17BA88F2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AC9F-FB79-460D-999F-82188674F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AEDB-D8C6-4BD6-B6EB-838AD894C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69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69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840" y="412812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4520" y="197604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4520" y="412812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69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69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840" y="412812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69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d6eb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69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4440" indent="-2314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6164280" y="6405480"/>
            <a:ext cx="33804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Oval 6"/>
          <p:cNvSpPr/>
          <p:nvPr/>
        </p:nvSpPr>
        <p:spPr>
          <a:xfrm>
            <a:off x="6095880" y="6323040"/>
            <a:ext cx="33840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7"/>
          <p:cNvSpPr/>
          <p:nvPr/>
        </p:nvSpPr>
        <p:spPr>
          <a:xfrm>
            <a:off x="6705720" y="6405480"/>
            <a:ext cx="33804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8"/>
          <p:cNvSpPr/>
          <p:nvPr/>
        </p:nvSpPr>
        <p:spPr>
          <a:xfrm>
            <a:off x="6637320" y="6323040"/>
            <a:ext cx="33984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val 9"/>
          <p:cNvSpPr/>
          <p:nvPr/>
        </p:nvSpPr>
        <p:spPr>
          <a:xfrm>
            <a:off x="7246800" y="6405480"/>
            <a:ext cx="33984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Oval 10"/>
          <p:cNvSpPr/>
          <p:nvPr/>
        </p:nvSpPr>
        <p:spPr>
          <a:xfrm>
            <a:off x="7180200" y="6323040"/>
            <a:ext cx="33804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7790040" y="6405480"/>
            <a:ext cx="33804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7721640" y="6323040"/>
            <a:ext cx="33804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val 13"/>
          <p:cNvSpPr/>
          <p:nvPr/>
        </p:nvSpPr>
        <p:spPr>
          <a:xfrm>
            <a:off x="8329680" y="6405480"/>
            <a:ext cx="33948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8263080" y="6323040"/>
            <a:ext cx="33948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actions With Like Denominator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dding and Subtract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905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decimals, fractions repres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numbers.  A fraction is usually a number that is between 0 and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792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ator - number on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66680" y="40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minator - number on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14400" y="40384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add or subtract fractions with like denominators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69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f the denominators are already the same, then you’re ready to add or subtrac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dd or subtract the numerators. Keep the denominators the sam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mplify (reduce) the fraction, if possibl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f you end up with an improper fraction, change it to a mixed numbe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5800" y="1447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45720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33520" y="2666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133720" y="2057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200400" y="15238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2895480" y="2590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200400" y="2666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4724280" y="2133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63868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019920" y="1600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0199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1752480" y="4191120"/>
            <a:ext cx="4572000" cy="106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nswer cannot be reduced any fur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609480" y="457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28600" y="1371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920" y="12952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752480" y="1371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362320" y="1371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666880" y="533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438280" y="1295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65760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4267080" y="1371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648320" y="457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4419720" y="12193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80880" y="2666880"/>
            <a:ext cx="6400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CF of 4 and 14 is 2, so we divide by 2 to re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5791320" y="914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6477120" y="838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7086600" y="914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7848720" y="1523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8077320" y="685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8077320" y="1447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3520" y="380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"/>
          <p:cNvSpPr/>
          <p:nvPr/>
        </p:nvSpPr>
        <p:spPr>
          <a:xfrm>
            <a:off x="228600" y="1371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12952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76520" y="838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43200" y="3808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2438280" y="1371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1219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88620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72428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457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876920" y="1295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4920" y="2133720"/>
            <a:ext cx="7924680" cy="94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 improper fraction (the top is bigger than the bottom), so we want to change it to a mixed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04920" y="3352680"/>
            <a:ext cx="792468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o this, divide the bottom into the 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762120" y="48006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1295280" y="49528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1295280" y="49528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2952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1676520" y="4038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676520" y="5410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21932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066680" y="6248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676520" y="6019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200400" y="4343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4952880" y="4343400"/>
            <a:ext cx="60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5486400" y="5029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5638680" y="4495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5638680" y="4952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8124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y So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380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0" y="13716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1295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219320" y="13716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828800" y="1371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057400" y="457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828800" y="12952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20040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962520" y="1371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5228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143000" y="3048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133720" y="2666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1905120" y="35812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133720" y="34290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200400" y="3048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4038480" y="35812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228600" y="4572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0" y="5410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0" y="53341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295280" y="4876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6"/>
          <p:cNvSpPr/>
          <p:nvPr/>
        </p:nvSpPr>
        <p:spPr>
          <a:xfrm>
            <a:off x="2057400" y="54100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133720" y="4495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2133720" y="52578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3429000" y="49528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5105520" y="5410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4114800" y="533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4114800" y="1219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419112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4191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343400" y="4343400"/>
            <a:ext cx="91440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5410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5410080" y="5257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23:42:22Z</dcterms:created>
  <dc:creator>Administrator</dc:creator>
  <dc:description/>
  <dc:language>en-US</dc:language>
  <cp:lastModifiedBy>Home</cp:lastModifiedBy>
  <dcterms:modified xsi:type="dcterms:W3CDTF">2010-11-14T16:34:41Z</dcterms:modified>
  <cp:revision>12</cp:revision>
  <dc:subject/>
  <dc:title>Adding and Subtracting Like Fractions</dc:title>
</cp:coreProperties>
</file>